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DEEE-60AD-4443-8F32-CE2E8B5CC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A8CF-6C7E-4846-93FC-8F337DD5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6B78-CC6F-48B5-9E56-B28A5D593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9676-8A63-48BD-BB31-F9A42F4B6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B0A0-60B2-4266-9F71-7F03F688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471D-E334-4B21-8278-94A2E007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CF47-E241-4C92-BC21-CF9F8F40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E1F7-3087-4672-BE82-A1A61EE0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BE19-435E-4846-AE71-13098318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7534-2D79-42EE-AB43-EB99EBEF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5018-FDC8-4703-BD46-626F3226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A428-2DEF-483D-B5EF-E4F9AAAA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90A1-6520-41DF-92BB-75685C0D1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90720" y="609480"/>
            <a:ext cx="6781680" cy="201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chad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2895480"/>
            <a:ext cx="4495680" cy="36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057400" y="533520"/>
            <a:ext cx="5019840" cy="1701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oadway"/>
              </a:rPr>
              <a:t>Moi en França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oadway"/>
              <a:ea typeface="Broadway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1676520"/>
            <a:ext cx="792468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m’ appel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suis 1.6383 me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’ai douze 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 anniversaire est le dix-sept avr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’aime le tenn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’aime le riz, le poulet, le clèmentine, le salad, le fro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m’appel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suis 1.5875 me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’ai treize 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 anniversaire est le six septem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’aime le football américain et le o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14400" y="4800600"/>
            <a:ext cx="2514600" cy="16700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400800" y="14479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2286000" cy="1841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1905120" y="304920"/>
            <a:ext cx="4724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Moi en Françai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untry is located almost at the center of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ke it easi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d is by Nig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dan, and Lib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80880" y="380880"/>
            <a:ext cx="4267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Flag and Ma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0" y="2666880"/>
            <a:ext cx="3733920" cy="3486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477120" y="228600"/>
            <a:ext cx="160020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people would rather deal with hardships then be accused of anything, such as selfish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ipping the palm of yo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 from facedown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e up is a way of as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re you going?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“What are you doing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62120" y="380880"/>
            <a:ext cx="73911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id you know this about Chad...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31240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 of Chad is N’Djam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of Chad is 9,944,2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12 hours and 9 minutes ahead in Chad from Orem Ut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DP (money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year) is $2,0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38080" y="228600"/>
            <a:ext cx="7086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Kidprint"/>
              </a:rPr>
              <a:t>Chad, The Country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Kidprint"/>
              <a:ea typeface="Kidprint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692680" y="3505320"/>
            <a:ext cx="2094120" cy="2743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066680" y="5181480"/>
            <a:ext cx="3200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d’s main langu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French and Classic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ab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gion is ½ Muslim, 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tian, and ¼ anim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dians are usually friendly and gener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dians like to look pleasant and c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219320" y="380880"/>
            <a:ext cx="60195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Swiss911 XCm BT"/>
              </a:rPr>
              <a:t>...People.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Swiss911 XCm BT"/>
              <a:ea typeface="Swiss911 XCm BT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257800" y="1523880"/>
            <a:ext cx="36576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867280" y="4876920"/>
            <a:ext cx="2819520" cy="1749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79246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knock by clapping outside someone’s gate or d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entering another’s home, people shake hands with the men before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ians never use their left hand because it is considered di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someone enters the room and u don’t want to shake hands, they hold their right hand up and say Lal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f Chadians favorite snacks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ckets and toasted termites in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90720" y="228600"/>
            <a:ext cx="708660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Swiss911 XCm BT"/>
              </a:rPr>
              <a:t>Customs and Courtesies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Swiss911 XCm BT"/>
              <a:ea typeface="Swiss911 XC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828800" y="380880"/>
            <a:ext cx="50292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ernhardMod BT"/>
              </a:rPr>
              <a:t>ጁ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ernhardMod BT"/>
              </a:rPr>
              <a:t>Lifestyleᛨ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ernhardMod BT"/>
              <a:ea typeface="BernhardMod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men marry in their tee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men can be as old as 35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women aren’t married bef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, they never marry or they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iled or ki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holiday that is celebrated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unch is the main meal in the da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ther than di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199200" y="1676520"/>
            <a:ext cx="25304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ad’s government if like ours in many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President of Chad is elected to a 5 year-te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ad has no railroads, making it difficult to tr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st peo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n’t have a T.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00200" y="228600"/>
            <a:ext cx="5562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~Society~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343400" y="4343400"/>
            <a:ext cx="4038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ve French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t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premier de l’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Years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l’a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ou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wel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iq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133720" y="2971800"/>
            <a:ext cx="2892240" cy="32004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568920" y="3429000"/>
            <a:ext cx="2340000" cy="2971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11872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3T18:47:46Z</dcterms:created>
  <dc:creator>CVJH-LAB</dc:creator>
  <dc:description/>
  <dc:language>en-US</dc:language>
  <cp:lastModifiedBy>nield411</cp:lastModifiedBy>
  <dcterms:modified xsi:type="dcterms:W3CDTF">2008-01-17T22:33:26Z</dcterms:modified>
  <cp:revision>16</cp:revision>
  <dc:subject/>
  <dc:title> </dc:title>
</cp:coreProperties>
</file>